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F350-3A8F-4E1D-AFBF-8BA549099C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0D7D-F6E7-4614-B36E-522394C5C3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927-7F68-472D-A9A5-E4D138BE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EE6-37CE-4FD1-ABC8-F8285A41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407-FDF1-43AE-B616-1268DBCD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00E-ED29-455E-AF90-927F3ED7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A53E-E93F-4239-8724-17E6E310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54A8-FA54-4BDA-A812-66480C66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BF4F-2DC1-49CB-9988-E889364F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A3AB-9C25-4C79-B5BE-7746B4CD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54A1-02BA-4A95-805F-DF76EFCB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58FF-766A-491A-9632-1E0CFED4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9077-8844-453B-944A-A0200120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60C-0441-40DD-A4CF-A98C1313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5421-D047-4326-8866-D8E0F76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C9CE-7A7E-48C6-BB87-6F21E4CA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8A44-0945-4A78-813A-7D9699C3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3D3E-6102-4C0A-9AD4-1A56EA50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101C-65B3-4CC0-A678-CA343313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8909-109F-49BE-A534-2DB866E3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DCABD-A2FD-4F67-9868-4536044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58F7-0850-437F-988D-0BF3497B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CB07B-2C2A-40F7-AA10-3691DB32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B675-165C-48B7-9FC6-7CFD31EB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BCC-25A2-4123-B2D6-85031D99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D7A3-F47E-46C6-9A83-04E9C011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6FFA-CDFA-42E9-9C09-C2148959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D7B4-4C0F-4CE0-9C83-56BBB23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3414-AEF6-48C7-AC87-10398B0F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24C9-ABDB-4247-A1E0-BEDC8D03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A8D8-3644-451B-BBF8-F4F2AC57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C95E0-6B2C-42AA-AEE2-2FD966BD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D192-40E3-4B88-B630-9EABA9D2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316E4-0A6A-4EF9-83A3-BA0D30E0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FB68-4E9B-4E92-B877-A705AFFE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B9D-8CBB-483D-AFA6-E8153F84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1F2A-9F81-4752-B13A-FF42B94B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4CA7-3BEA-42BF-BF7B-14754152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159AF-4FE9-4D87-832B-D3611552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1946-C385-46F0-95BE-866FA9C6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A63E-31BD-46B2-8828-E30DB488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BA74-2A69-48A9-9914-E59397BA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18177-EF57-4799-8EFF-3804744A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E38E-9F5B-4C8E-AECD-EF493B92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FF51-31A3-4ADE-9D06-115339E6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5308A-78E2-4870-A2A8-4C30C96F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D24-6DB0-4580-A9AB-5C0B6368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71FA9-1D56-4F7E-B8D2-30B06B78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B0EE4-3370-4D3B-B0CF-0CDC7B81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0C65E-3582-4258-A080-A7448FCA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D8CE9-4484-4EAC-90E2-71A954E7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9E0B5-BE74-4E4C-976C-F6998433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E64E6-9C4F-42D5-A27B-12FF43F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9A8B3-7497-4937-88DF-DAD6E55B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F907-7F2E-44FC-9BBB-F36E3BF9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301EA-6505-4E80-8763-E53FF2EE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29D8C-0C19-44B3-AF80-7DA199AB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8BE-D8DF-4BE5-903A-90C576B7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1C449-94DD-417E-A08B-833F1D3F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E2C-4922-43BC-86C2-0982362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271-959C-433C-B66D-53A29619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50E-9974-4056-8D21-3FF78EB1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C694-54FC-4D50-8531-F72905A72E7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3D6E-B5DC-4EFF-BF5A-6D91CD56600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16F6-ED9A-45B7-AB9F-619FC1B3B69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DF70-E94E-42FA-89A9-F43F2061EB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0AEE-7674-49B5-8B53-92146D25FFE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 2\U15_06-07a09.jpg"/>
          <p:cNvPicPr/>
          <p:nvPr/>
        </p:nvPicPr>
        <p:blipFill>
          <a:blip r:embed="rId1"/>
          <a:stretch/>
        </p:blipFill>
        <p:spPr>
          <a:xfrm>
            <a:off x="1332000" y="1000080"/>
            <a:ext cx="6286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5T11:30:34Z</dcterms:modified>
  <cp:revision>36</cp:revision>
  <dc:subject/>
  <dc:title>ТВОРЧЕСКАЯ ДЕЯТЕЛЬНОСТЬ: ЗНАКОМСТВО С ТЕХНИКОЙ ИЗОНИТЬ</dc:title>
</cp:coreProperties>
</file>